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1.gif" ContentType="image/gif"/>
  <Override PartName="/ppt/media/image9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10.wmf" ContentType="image/x-wmf"/>
  <Override PartName="/ppt/media/image7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4.wmf" ContentType="image/x-wmf"/>
  <Override PartName="/ppt/media/image5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6.png" ContentType="image/png"/>
  <Override PartName="/ppt/media/image3.gif" ContentType="image/gif"/>
  <Override PartName="/ppt/media/image17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590-9B4A-4999-A4EC-69C43D37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2C5-D89A-4D33-A63D-61AA8D88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9F4-2328-4017-A288-93F22353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9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9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74C-DAB5-49C2-9D3E-AEDA04FC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C9C4-CE28-4C3B-B72C-BB6D5AEE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F402-20AA-425D-92AE-3FE1C8C9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C16C-13B2-42B5-A5C1-B0FB5B40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AC86-2C75-437C-95A5-6AB105DA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685D-E569-4A80-8154-962594ED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C75F-6D0A-40A0-9AB9-B7DBDB5D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5CEA-F9D9-490D-B7CC-419B16C5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0495-9C8D-4525-8F3D-126352FC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CE31-CD01-4D4A-B37F-BFC8542E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98D2-8DC8-4DEE-B4B6-06B1CE15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626B-A8D5-4036-ABC6-84F7CA4D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1D8E-D6A9-4C7B-BABD-6263CEB3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39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39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AA9A-BB34-4E9B-BF96-200742C1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A20C-6BF2-4719-B413-62063CE5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C63-5AE0-48F9-8558-F8CAB076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0C8-804E-43D7-AD4E-5866C3F1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06F-325F-46A6-ADCD-6E3D41C1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762-FBEA-4CED-83DE-DB31D868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E1B-E899-4E65-B96F-D059380B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B90-6ADF-4C12-8482-49EA76C0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8AD9-EDBA-49A8-9230-AFA6909743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30481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A09E-A6BC-46A1-9BE0-5799FB5B6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1.gif"/><Relationship Id="rId7" Type="http://schemas.openxmlformats.org/officeDocument/2006/relationships/image" Target="../media/image12.wm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30481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Flight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860640"/>
            <a:ext cx="5486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 Foils and the Angle of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391520" y="-1523880"/>
            <a:ext cx="1431720" cy="1523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144000" y="3124080"/>
            <a:ext cx="1835280" cy="127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6185E-006 C -0.03992 0.05549 -0.07985 0.11121 -0.11735 0.15029 C -0.15485 0.18936 -0.20017 0.21734 -0.22534 0.23468 C -0.25051 0.25202 -0.24027 0.25063 -0.26822 0.25387 C -0.29617 0.25711 -0.34548 0.23445 -0.39357 0.25387 C -0.44166 0.27329 -0.51805 0.35052 -0.55711 0.36994 C -0.59617 0.38936 -0.61232 0.37965 -0.62847 0.36994 E">
                                      <p:cBhvr>
                                        <p:cTn id="6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5 -0.00416 L -1.21667 0.08878 E">
                                      <p:cBhvr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" nodeType="afterEffect" fill="hold" presetClass="path" presetID="0" repeatCount="100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0.62847 0.36971 C -0.68941 0.36092 -0.75017 0.3519 -0.78403 0.32115 C -0.81788 0.29017 -0.83489 0.24231 -0.8316 0.18358 C -0.8283 0.12508 -0.7783 0.01387 -0.76441 -0.03075 E">
                                      <p:cBhvr>
                                        <p:cTn id="12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Wings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hape of a wing is called an “airfoil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irfoi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 streamlined shape with a rounded front edge and trailing back edge, designed to help lift or control an aircra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895480" y="4114800"/>
            <a:ext cx="381024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7086600" y="3962520"/>
            <a:ext cx="1600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irfoil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714640" y="4724280"/>
            <a:ext cx="121932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Airfoil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irfoil shape causes the Bernoulli principle to occur when an airplane mov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irfoil has two characteristic par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ading ed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front edge of a wing, usually roun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971800" y="5029200"/>
            <a:ext cx="5486400" cy="1092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04920" y="4952880"/>
            <a:ext cx="2457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ading Edg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5715000"/>
            <a:ext cx="3200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Airfoil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iling ed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back edge of a wing, usually sharply tap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5486400" cy="1092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324480" y="2895480"/>
            <a:ext cx="2428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ailing Edg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486400" y="3962520"/>
            <a:ext cx="3200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9372600" y="5410080"/>
            <a:ext cx="1803240" cy="87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9296280" y="-390600"/>
            <a:ext cx="1371600" cy="1081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-1270080" y="1143000"/>
            <a:ext cx="1270080" cy="909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9448920" y="4038480"/>
            <a:ext cx="1218960" cy="111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6.93642E-007 L -1.24028 -0.26335 E">
                                      <p:cBhvr>
                                        <p:cTn id="6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10405E-006 C -0.12101 0.01434 -0.24202 0.02891 -0.34289 0.10775 C -0.44375 0.18659 -0.51563 0.36185 -0.60486 0.47353 C -0.69427 0.58498 -0.77865 0.75376 -0.87934 0.77573 C -0.98004 0.79769 -1.14028 0.64139 -1.2092 0.60602 E">
                                      <p:cBhvr>
                                        <p:cTn id="72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500"/>
                            </p:stCondLst>
                            <p:childTnLst>
                              <p:par>
                                <p:cTn id="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-2.31214E-006 C 0.07065 -0.02358 0.14149 -0.04693 0.20156 -0.03167 C 0.26163 -0.01641 0.30173 0.07908 0.36006 0.0911 C 0.41874 0.10312 0.49062 0.0296 0.55208 0.04023 C 0.61371 0.05087 0.67239 0.1459 0.73003 0.15445 C 0.78749 0.16301 0.83802 0.08047 0.8967 0.0911 C 0.9552 0.10174 1.04131 0.19607 1.08246 0.21781 C 1.12343 0.23954 1.13281 0.23075 1.14253 0.22197 E">
                                      <p:cBhvr>
                                        <p:cTn id="75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6763E-006 L -0.65833 0.07769 E">
                                      <p:cBhvr>
                                        <p:cTn id="7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65833 0.07769 L -1.225 0.08879 E">
                                      <p:cBhvr>
                                        <p:cTn id="81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Need more lift?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ilot can increase lift during flight by changing the tilt of the w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leading edge of the wing is tilted up, the pressure above the wing is reduced, and more lift is crea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3108600" cy="2023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34120" y="4343400"/>
            <a:ext cx="2743200" cy="2066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038480" y="5334120"/>
            <a:ext cx="12193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-2133720" y="2666880"/>
            <a:ext cx="2514600" cy="2008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Up, up, and away!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wing is tilted,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gle of atta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ncre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gle of atta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angle created by the tilt of an aircraft’s wing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ing’s edge forms one side of the angle and the air stream forms the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990720" y="4800600"/>
            <a:ext cx="7391160" cy="151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path" presetID="0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6.66667E-006 6.35838E-007 C 0.07951 -0.00209 0.15902 -0.00417 0.2302 -0.01896 C 0.30138 -0.03376 0.35572 -0.03284 0.4269 -0.08879 C 0.49808 -0.14474 0.60069 -0.26844 0.65694 -0.35515 C 0.71354 -0.44185 0.74461 -0.55029 0.7651 -0.60856 C 0.78541 -0.66729 0.78229 -0.68671 0.77933 -0.70613 E">
                                      <p:cBhvr>
                                        <p:cTn id="121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9880" y="3733920"/>
            <a:ext cx="3733920" cy="2960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3048120" y="3505320"/>
            <a:ext cx="1162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h no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Angle of attack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the angle of attack increases the li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f the angle of attack is to big, the wing will stall and there will be no lift at 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2274840" cy="2895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572000" y="533520"/>
            <a:ext cx="4572000" cy="3267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Too much attack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52280" y="1066680"/>
            <a:ext cx="3657600" cy="2984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962520" y="3962520"/>
            <a:ext cx="3886200" cy="268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Review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rfoils cause lift and have two parts:  leading edge and trailing 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lting the wing increases the angle of attack.  A greater angle of attack increase li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5486400" cy="1092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80880" y="289548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ading edg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15080" y="3124080"/>
            <a:ext cx="2428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ailing Ed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600200" y="5334120"/>
            <a:ext cx="5715000" cy="117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9:34:33Z</dcterms:created>
  <dc:creator>Teacher</dc:creator>
  <dc:description/>
  <cp:keywords/>
  <dc:language>en-US</dc:language>
  <cp:lastModifiedBy>Teacher</cp:lastModifiedBy>
  <dcterms:modified xsi:type="dcterms:W3CDTF">2006-05-24T11:17:26Z</dcterms:modified>
  <cp:revision>13</cp:revision>
  <dc:subject/>
  <dc:title>Fligh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61033</vt:lpwstr>
  </property>
</Properties>
</file>